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5F2-5845-42F7-A73D-7669681F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7C6-2F15-47A1-8752-BA0FC7CD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35A-7301-475F-BD45-DAF906A8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EB0-13C6-454F-82FA-3B41F0FF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03A-040D-4446-B261-A358FEE3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60D-A1B1-4A45-A937-7C28C95A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F37-EC98-4AD0-8CB1-5FD697D1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5E3-DD1A-405C-B715-CC9B06E8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7B9-8415-489C-9E01-3969731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1A6-48E3-424D-A68D-D006B38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660-C6D4-4282-BB06-2CBD3F61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ADF-AB72-40D5-8CA9-6563671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D9BA-6DAB-4E1C-81D4-436DF3690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Hurray" TargetMode="External"/><Relationship Id="rId2" Type="http://schemas.microsoft.com/office/2007/relationships/media" Target="file:///tmp/home/.config/libreoffice/4/user/gallery/Hurray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Learning </a:t>
            </a: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C</a:t>
            </a:r>
            <a:r>
              <a:rPr b="0" lang="en-US" sz="7200" spc="-1" strike="noStrike">
                <a:solidFill>
                  <a:srgbClr val="ff9933"/>
                </a:solidFill>
                <a:latin typeface="Arial Rounded MT Bold"/>
              </a:rPr>
              <a:t>o</a:t>
            </a:r>
            <a:r>
              <a:rPr b="0" lang="en-US" sz="7200" spc="-1" strike="noStrike">
                <a:solidFill>
                  <a:srgbClr val="ffcc00"/>
                </a:solidFill>
                <a:latin typeface="Arial Rounded MT Bold"/>
              </a:rPr>
              <a:t>l</a:t>
            </a:r>
            <a:r>
              <a:rPr b="0" lang="en-US" sz="7200" spc="-1" strike="noStrike">
                <a:solidFill>
                  <a:srgbClr val="009900"/>
                </a:solidFill>
                <a:latin typeface="Arial Rounded MT Bold"/>
              </a:rPr>
              <a:t>o</a:t>
            </a:r>
            <a:r>
              <a:rPr b="0" lang="en-US" sz="7200" spc="-1" strike="noStrike">
                <a:solidFill>
                  <a:srgbClr val="333399"/>
                </a:solidFill>
                <a:latin typeface="Arial Rounded MT Bold"/>
              </a:rPr>
              <a:t>r</a:t>
            </a:r>
            <a:r>
              <a:rPr b="0" lang="en-US" sz="7200" spc="-1" strike="noStrike">
                <a:solidFill>
                  <a:srgbClr val="800080"/>
                </a:solidFill>
                <a:latin typeface="Arial Rounded MT Bold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971800" y="1905120"/>
            <a:ext cx="3124080" cy="3047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ora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pur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8120" y="1905120"/>
            <a:ext cx="3124080" cy="30477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pur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1828800"/>
            <a:ext cx="3124440" cy="3048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gr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br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71800" y="1905120"/>
            <a:ext cx="3124080" cy="30477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br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043"/>
                </a:solidFill>
                <a:latin typeface="Arial Rounded MT Bold"/>
              </a:rPr>
              <a:t>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8120" y="1905120"/>
            <a:ext cx="3124080" cy="3047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bl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8120" y="1828800"/>
            <a:ext cx="3124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wh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p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1800" y="1828800"/>
            <a:ext cx="3124080" cy="3048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pi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71800" y="1828800"/>
            <a:ext cx="31240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bl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8991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660033"/>
                </a:solidFill>
                <a:latin typeface="Arial Rounded MT Bold"/>
              </a:rPr>
              <a:t>Awesome!</a:t>
            </a:r>
            <a:br>
              <a:rPr sz="9000"/>
            </a:br>
            <a:r>
              <a:rPr b="0" lang="en-US" sz="8000" spc="-1" strike="noStrike">
                <a:solidFill>
                  <a:srgbClr val="ff5050"/>
                </a:solidFill>
                <a:latin typeface="Arial Rounded MT Bold"/>
              </a:rPr>
              <a:t>You are do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15000" y="571500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33"/>
                </a:solidFill>
                <a:latin typeface="Arial Rounded MT Bold"/>
              </a:rPr>
              <a:t>Created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 Rounded MT Bold"/>
              </a:rPr>
              <a:t>Lizzy Pur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 Rounded MT Bold"/>
              </a:rPr>
              <a:t>September 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1828800"/>
            <a:ext cx="312408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8120" y="1905120"/>
            <a:ext cx="3124080" cy="304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 Rounded MT Bold"/>
              </a:rPr>
              <a:t>That’s Right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60043"/>
                </a:solidFill>
                <a:latin typeface="Arial Rounded MT Bold"/>
              </a:rPr>
              <a:t>yel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25358" y="10800"/>
                </a:lnTo>
                <a:lnTo>
                  <a:pt x="11345" y="17806"/>
                </a:lnTo>
                <a:close/>
              </a:path>
            </a:pathLst>
          </a:custGeom>
          <a:solidFill>
            <a:srgbClr val="9933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Rounded MT Bold"/>
              </a:rPr>
              <a:t>o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1143000" y="1295280"/>
            <a:ext cx="3124080" cy="3048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4876920" y="1295280"/>
            <a:ext cx="3124080" cy="3048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60043"/>
                </a:solidFill>
                <a:latin typeface="Arial Rounded MT Bold"/>
              </a:rPr>
              <a:t>Please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3048120" y="31240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Wingdings"/>
                <a:ea typeface="Wingdings"/>
              </a:rPr>
              <a:t>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5050"/>
                </a:solidFill>
                <a:latin typeface="Arial Rounded MT Bold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5:16:27Z</dcterms:created>
  <dc:creator>wcpss</dc:creator>
  <dc:description/>
  <dc:language>en-US</dc:language>
  <cp:lastModifiedBy>Elizabeth Purcell</cp:lastModifiedBy>
  <dcterms:modified xsi:type="dcterms:W3CDTF">2007-09-08T02:49:09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